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4DB-65C1-48A4-8EC1-8CB72242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AE2-EAFE-43FE-BF32-2B113878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0A6-50E7-4977-89E2-62AE1116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705-7A22-4893-8780-DFAB24AB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CF3-644C-41D6-A891-AC30EFEF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A3E-7E92-482F-9737-E3608CA0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D6B-BF78-4E65-BC32-C8BE5C0B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519-4589-481A-8503-D2F5397B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DD1-FEC8-421F-AD5E-E55E6C2B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744-3BBF-499E-BA05-6755540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259-5DAF-47E6-88E3-2B89B1AD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4D4-36BC-4EEC-B7DC-1E4C30B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A2A0D-B9AA-4A46-AE9F-C5FBDD582917}" type="slidenum">
              <a:rPr b="0" lang="es-MX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7280" y="2592360"/>
            <a:ext cx="57596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Nos complace presentarles a “The Palms Resort Of Mazatlán", ubicado en las hermosas playas de la costa del Pacífico Mexica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7280" y="2592360"/>
            <a:ext cx="57596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stamos seguros que el valor, la calidad y el producto de nuestro hotel son de los más altos estánda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ubicación lo es todo en tus vacaciones. Nuestros huéspedes aman nuestra ubicación en la playa, jardines, alberca con efecto infinito, bar de alberca y cómodas habitaciones que invitan a relajars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Unas vacaciones perfectas en Mazatlán empiezan con unas bellas puestas del sol, brisa tropical del Pacifico, playas cálidas y cristalin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Descanse en su oasis personal de confort después de un día de sol y diversió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34040" y="2592360"/>
            <a:ext cx="3657600" cy="4716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7280" y="2592360"/>
            <a:ext cx="5759640" cy="12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nsiente tu paladar con nuestra deliciosa variedad gastronómica y exquisita coctelería en nuestros restaurantes y ba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58960" y="2533680"/>
            <a:ext cx="4762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alibri"/>
              </a:rPr>
              <a:t>Contáctano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3527280"/>
            <a:ext cx="91440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EL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01-800-716-97-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WEB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www.palmsmazatlan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reservaciones@his.com.m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ebook.com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almsmazat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witter.com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almsmazat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Youtube.com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almsmazat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8:03:57Z</dcterms:created>
  <dc:creator>ariel </dc:creator>
  <dc:description/>
  <dc:language>en-US</dc:language>
  <cp:lastModifiedBy>ariel </cp:lastModifiedBy>
  <dcterms:modified xsi:type="dcterms:W3CDTF">2013-02-21T19:01:15Z</dcterms:modified>
  <cp:revision>6</cp:revision>
  <dc:subject/>
  <dc:title/>
</cp:coreProperties>
</file>